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A73-CF0C-499F-8FD8-2D8C6B4F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34A-7953-4985-AC40-30493579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3B30D-CDA8-4A3B-9A24-3945C71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7C7A6-7BAF-42CF-89C7-62F84B3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D196-F29D-464D-80BC-F45D328A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36F6A-0D04-4493-A317-0D2BC32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E9B2-1F9B-4C67-90FC-434A19C3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D1954-6E1A-4B0B-80D0-9B77A9B9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02EE-F466-48EE-83BA-D922C60C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8C0A5-B90D-45CA-8395-5E4A44E7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15EFE-4E79-4BF0-B895-800BCF00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C888C-A871-4170-B097-07D94C53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A9F-F079-4021-A40A-0CD7EFD5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F5840-A0C2-489E-AF84-86CBAA35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CE55-9C36-4B9A-AA04-FE0DEBF7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F532-7CD9-4C11-9E9B-5E7F1DC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174C-356C-4A62-AE0C-77C6501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524AF-4F8E-4994-AFFD-D9FA880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DF996-38A4-4C4A-8304-D952C9F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D495-EAE3-484A-A628-4FA8964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21E2F-AC38-4770-B626-264F9F3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D0DF-6A23-4E4B-8530-148980B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305B-E76F-4A93-93BD-33F34E26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B64-EC85-4E8A-A805-221E35CC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EF6A1-D5C7-46F5-8305-3E75314B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A66E-699A-4D5F-B5A4-15015B9E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2CF1F-EAEF-4249-93D3-3D34D8C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BF22-CC48-42B1-A559-02554EA0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C413-4B3F-423B-A37D-274A5F1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DECDD-ED3C-41BF-9692-8E7A8BD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6020-E210-47B6-939B-84D6B7C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383DD-967B-4E7E-B5F2-835828E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D873D-FA64-4525-9323-9148552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88E4-4BA3-4D66-92AA-4F1F055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680B-AEF3-4E2A-800A-F9CCA258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3AB7B-594B-4E36-83A8-D834B934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7B0A-DB20-418B-AD75-2D9617EB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BDE02-F870-45E4-8765-F5460ED8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9E9A-17D9-4F44-A269-AFF4EF16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22B35-DA6A-4FF1-966E-475FB90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D507E-A638-4AFE-9B12-F123D889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35218-B711-48B3-BF1B-DBCF0A00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6F325-D9D3-48E2-AFA0-5584C5A8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150B-62A1-4009-9997-684609F7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E798E-03D4-4CC3-8916-A1485420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321B-46C7-4AE7-BA82-19C41815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E3D0B-D1A7-41E7-9CBB-8D6C6E6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825D2-BE7D-462E-A1D2-355DCE0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E14AA-EECF-4482-8A58-8A02AE35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B0D03-D0AF-4E6B-81E7-29901D7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BD07-32FE-4558-9228-D1CA6891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014B6-51DB-4A07-81F0-B6CD721E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1721B-17CE-49B8-A3CD-89BEC9F0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AAA92-9EA9-4A4E-9856-FAC940F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FF502-98EA-4CCD-8FFE-CD26AE1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03EDA-DA0D-40FB-BD85-D5E3835C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EFB-BB7F-4915-9BC0-AE2E63E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AE111-5A29-4682-85DC-F15D63E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0A87F-E4B1-4DC1-857B-D0B11EA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10706-1BDA-460F-82FF-4D28B68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114D9-117A-466F-AE06-C6181F2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84BA2-C8CD-4B66-80B8-022D4B68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C9410-4727-4D9B-906E-A7CFAC37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EEAE7-AE01-4B7E-BE9A-86121EF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DD853-5FB8-4F32-8F35-BAAE00C4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D8972-6E81-4981-9AA1-1E703B4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9E594-36DA-423E-A958-913A5E6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1F0C-0909-412C-9CDC-C0A9DCAF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FCEAC-E6AD-4830-B32B-0B7B0DE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7CBB3-5AF7-4E40-A176-7EC22F53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60A50-359A-4D90-89FB-A22B745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B21B8-F6AF-4118-B7E0-D723075E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47102-5CC3-481D-BC8D-ED0861E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1B2C6-A1BC-4136-9673-64FD886A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882B2-0B4E-40F6-B0D6-CDF4AA8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5F66A-0737-460B-BA5A-EFDC1D82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BFD25-7807-4E1C-A3B3-24C42D37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4E644-3FB3-4EBA-9E62-DA73780B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BB2-F634-4CFC-AD75-91433F0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BA741-5953-4B10-BFA7-DC7BD4D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87683-6F75-4400-A888-2128867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35FA8-C38A-4B55-BD13-45481C6F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AF7AF-F03E-4C58-8FAD-7434A43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AE166-552A-44D5-9CBC-CE12278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EFC37-F841-4017-894C-F1B0C6B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8FF51-ABD7-442D-BA8B-A9BE88E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948E7-E079-4E08-AB43-CF70900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8B71E-AEF8-4441-8EC9-B693F8F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3CD5C-EDCF-4992-8379-D2E2C2D4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C97-A7D1-4DC6-A6CC-CADD56DA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9E68E-3E1E-425A-B65F-A2B53AE1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D7701-1747-4CB2-8FE4-1730C5C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5AD4F-83C3-419F-9CB1-2ED66315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157C3-7CD8-4DC7-A69B-7043D04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664F5-22D5-454D-9EFE-218E1BCD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3261B-AACE-4160-8D27-A0BE281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2614B-6A57-44DB-8926-9EB368D1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E72F0-0C5D-4398-80CA-0F45D47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51863-8F3C-439C-9EE3-BE4E9830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76F14-0D41-4979-AC42-56E8305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8A5-5373-472C-8EF1-D2673D3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1DE43-37C5-41AF-BA75-F18084CB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2045C-27AB-4E09-86EE-77A88729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1A49A-4BDF-4699-80FC-0BAD679A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2B448-09A6-4C43-B9A0-BC2F995F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A67AA-044F-4062-84B4-4116BC4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3C4DE-6A3B-43E1-AAE5-E574D02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F6E01-BDBE-4A98-B4D1-94887258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B544E-B4C3-41A0-A3FF-23BD8B9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A10BD-4640-471C-B7C2-9446275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0D26A-6B1D-4635-8BDD-EF93EAF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105-54EF-439F-913F-410453D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F26-102B-4C80-A5BB-BB96F92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B8061-EB3D-4C67-9943-B087D8F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2F073-3D6A-4253-9211-9DF05DC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5D857-D1CE-472F-A7D5-2306CC04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71473-F1B7-403C-861C-AD23979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61073-DCFA-4A4C-8318-3EFBF575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474E1-D55D-4B27-831F-1DCB9D99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79FAE-3250-4F34-AAAA-C94E59B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5E350-CDB3-410D-89B9-6667919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36A4C-C577-4573-8933-F01DE210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DCCA1-631A-4F3D-B6C0-65497CDE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7E62-F84C-430C-BD66-EDCA84E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D75C3-979B-4BD0-8717-6757C1A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0A15C-F94C-4981-8A73-5A6F92F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DBDDC-796D-4E98-AFB2-CFC8750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99E37-9A82-40CF-96B5-6076491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EFA32-947E-4C5C-818B-BC90FED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92125-7DDC-42B4-BB4F-230C0589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C5447-9D6D-4F38-B4F2-C06D5F93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B59CD-12DC-4CF5-8176-80AE219A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1F268-3803-481B-9AD4-FAE397AF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0C19A-0172-47D3-9191-37AA86C5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C1B7-D344-4D35-9E7A-B90B975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37F8F-F768-40D7-8CEF-FFF3D1D0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C3C13-09FA-4CE4-96B0-41A6FEE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A81A7-C2CC-4979-99D6-0971A4F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B674E-A183-46FC-A79E-29179F6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BD1B3-B49C-4030-82FF-C6F9ABD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53634-238F-4042-B488-F4206DC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BA992-5C0C-4710-ACDE-0899A98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51CC2-11CF-4461-90B5-22B0DFF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DAB23-28EA-4A40-8F01-B6A13C9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2E070-8457-470E-BADB-AAF438E3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C581-B7BC-4D84-AB96-F7FEA8FF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29D0E-B2B5-4782-B0EA-0534996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70CCA-1434-4BD2-BDEE-9C33044E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1FCA9-7429-4CAA-9319-4942CF41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95177-8961-4450-BB65-627FCE5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46D99-9F0B-43F2-B422-FDC5E6C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A6EC6-3188-4B39-9A17-3F0598D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072A0-87B1-4CB6-9DAC-6C9FDCE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C8C52-1F31-4000-8DAE-7E8B066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86BCA-8DF3-4993-9EAF-3B294E0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CEC23-66E5-4EB5-81E4-A975BF12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7BA-11EF-4D84-83B3-D075018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3E51B-A686-4164-8646-8B5C44D4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F1175-B3C8-4888-B1BA-C8D467A2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A8518-F3AA-466C-B01F-DA3DB5D3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89560-37D8-4B5F-BEF9-D8562ED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B94D1-5164-4D45-A56C-C960EA2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0E2E0-64F3-432F-B03E-C234A6D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A395E-3E4F-47E5-AA39-0993352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4A1EE-5372-4F56-BCCF-CD32DF9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CB83F-D39B-4D6A-A60F-40FC4FC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12BDC-595E-4142-ADDE-2CA89B0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9447-5103-41EE-A142-2648E4D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EECB3-77F2-49C4-A1B1-77AA220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42478-755C-4803-9719-F1530D70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FC6D24-DBBA-4C5E-83CC-FE8AA53B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D0D5A-75EC-4745-9080-DFB3E2E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7D2B2-457B-479A-9F0C-30E8C89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9A7D9-9A8C-4074-89E2-D903F236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91246D-4ED5-42A8-AE2B-44E196B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8AD94-6214-4C18-8355-8896695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7E6769-C68B-495E-843B-AF85A57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F25EB-0599-474B-9293-F91E707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5CB1-C92F-48DA-A16A-2DE8FA62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0A09C-2A2D-48E5-BED1-B060A26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0155E-A4FD-43EE-B98F-B7495F8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64CFC-43B2-4316-945D-55C19A1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853FB-8B08-4BCB-A443-09C7105F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CD32A-1286-433B-8C8F-387E0F1F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F2823-20B0-4DDC-A607-98F2F27F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F871F8-37D7-4886-9D81-21B72CB3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C1FA3-486E-4470-B336-B1F0D0C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068AA-3944-4188-B5EC-9BD2C78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5B23AF-FA34-4489-A0DD-8CB3EECC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4330-3D70-471A-8815-EFA3D109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D5FC9-9F09-43E4-B9B1-7708CD8A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5FD86-BF11-4C29-B803-9E3DDDF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FE1047-B365-44CE-A730-3D4340BA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190E9-B623-4F12-96AF-178FDCB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5E4D8-E370-487C-8913-EFDC3B15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FE34B-4450-4055-9B30-A0D8A5E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28E15-39B0-405C-875F-EB5FA00B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5C481-1F87-4D88-BBAC-E301D87E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41E4E0-C1C4-42B0-BBF2-E355F84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533690-4332-463B-A156-614997E6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D026-EDBD-4025-BD8A-5073C941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D76D0B-5534-43C9-8E36-E2A6DE7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6D5052-525B-4DDF-8A22-7E960C18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366B50-FE95-4791-8065-333D1B4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2C81F-44A7-4459-B1C2-EEB0B9A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E585E-56C8-4911-B4E3-4D39C9C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83EF82-4AE2-4B4B-9D9F-B279F99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B8F83-6B5E-411B-85D6-51BF3395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5BE64B-F7E6-435D-88CD-96D59D29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B12DFC-0A28-497A-9748-607623A6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8AE072-F5D7-4117-8AC1-6CBF39D8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CA8F-A408-47CF-83C5-D87BF31A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8C2C12-57AD-4204-9BF0-EB422F00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1DE883-6858-4D0D-AED7-F7004698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C3AB2-800E-422D-802B-17589B4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4C0F2-2A27-4992-8123-F654830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D9711E-A375-4DC7-818B-45D800F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B1CAE6-D76A-4392-8983-B346B2D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D6A519-8DBD-4AD8-880A-171F219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E3DBC6-934B-4348-BC84-2CBA9FD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C51ECD-0B82-4C35-AE02-E4E6999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94B01-9E32-498D-8F21-5E400ACA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A74-40EC-4A83-81A0-BAFA539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483B-1416-499C-9DF7-14355DA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5DC4F0-05AB-4F80-B453-005AC9DF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CA98DD-9138-4A14-8F97-0C4FBDFF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0CC454-B9E8-49F6-BE0E-FD9090B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8A8FF9-B584-4610-ACBE-B0E5099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823F68-4D73-430D-B9BF-3A2F6335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66D3EA-34EB-4E57-9121-0C680732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27CC8C-F06F-436C-B773-F377E8F4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DC7F31-DAFB-4B36-B070-CBBB9D6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E874A8-BC39-431F-81BB-48B3EBD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8AD75C-B452-4A0E-AB9E-40ECA63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FAB4-5882-4A10-9C04-6AB6F70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B19D80-5CBE-41BC-8E96-372896A0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3F5C06-4C1E-46C4-BC4E-87B3C0B8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899ACE-6FC8-4F7D-ACFB-A8124745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5D268B-1935-4616-B709-301739FA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E58AFC-E774-4AD6-B548-19AFDBE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A88A7-CACB-490F-9D2D-88D5C72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FD23E1-A6F8-4ECD-87DD-08F2CFE4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D449EF-7DD5-4898-BAE6-868ED24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A43B95-9084-4555-804B-21982376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861D14-04C9-413E-A2EA-31C9C8D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4964-0AEF-411B-B029-2CF01F5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B8AE07-CA20-4FF3-850D-7118597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B1F0F-E2CE-4F67-9A95-39EB492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79323C-EF8B-4DE5-B938-4DC610FA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AF2BCE-2572-4387-9AB3-5C5629B3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A0EFFF-BC6B-4DC9-87F4-60481049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6684D-7A8C-4F3D-A085-EEBDD511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6578C7-3FCA-4688-8D9C-1DC718F4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1187B9-382F-4156-AF2D-BF412794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48A63-9366-4EA8-8D06-AF8BD4A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2809E4-C55A-42A2-B82F-58C6527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4672-5F90-420B-918D-48B300E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67BEC7-68AC-43A7-8FB1-294E5FEF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FCC8E3-A3F4-4C0E-ACDD-3B3DE8B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38EB5E-A7AC-4D4E-AF4A-1FD0C2D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9FA273-1328-43DD-A215-4FE24E0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281D28-FF59-46DE-97DC-5AB5E4A3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8CAB3-7719-45C2-8A75-98504F1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5DAF62-E187-42F8-A110-1B8C7EBC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535D45-9543-407A-8A3A-30313DAE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447A3A-2868-410A-A6CD-49F72FB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150062-5902-4D0C-B282-B1EF86E8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BCBC-97BE-405C-B5D1-4DB09E0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09F8EF-F67D-4417-BDF8-DA78B48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436B61-A8D4-4D5B-90EF-BE6B5D3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F9F637-A993-469F-96C8-F89A3A73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3C4057-B6A6-4BA0-8FAE-806A778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353E48-45E8-4985-A424-6CF90D8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35ECC1-0CE2-42CC-8D8C-212FE145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B42CBA-69DA-4539-9982-14F451FA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A99947-D798-4673-90D8-BBDE277C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A81E84-42B5-40B0-8BEF-4228C68A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08A80B-2B15-4DB3-821E-0939CB8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8879-A5DC-4F49-B740-F404403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708552-4140-4316-A7CE-D1B8F843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8BEC13-0013-4434-9953-1F9ADCB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E8F837-5A3B-4D7C-9B44-D0FAE2E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B127E3-8F05-42F9-99C2-8333118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9F482A-C25D-43F4-A971-0147F4BB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AF429E-175E-4D60-93F3-59A4ECE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576FC1-D93F-48EB-A6D0-AA294D6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23867D-EFA7-4D24-BFE9-69E4C5D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F1242E-D885-40A4-92E7-5098C80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688BB4-0DE3-48B4-9048-76F1AF1A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3CD1-12B9-49E9-AC93-956146D2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D030D7-616D-4B5B-999B-6B667FE1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1AEEF9-B3B9-4A87-91A9-3F92579E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21AC80-2EC1-4079-B9A0-5A3143FA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DF1929-F7A3-403F-AC9C-2B62E77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076174-4601-46C1-8A22-6F5C8AB0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7DE55C-9412-4983-BD17-95CB39D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9878AF-F6EC-4DA2-A247-499157D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0F5E6E-D100-4004-8181-2A47A9E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2C0F2F-6E9C-4D8C-A29C-71F9FCF0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84CD3A-86A0-4F82-8620-D25F33C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E08E-1D2F-49A5-8290-8CB89D2D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65568D-9A44-45CC-9F77-0307E50E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1D0D82-AB48-48D7-8D87-871CD1E0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0E471B-0C83-48A7-9C4A-F7DE8FC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F059-F44C-4B5A-9BAD-4CE8B33A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C3F2-C78D-4A2C-9D5D-B68A4F2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AAE-727C-4913-A87B-D558EE79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832A-182B-4E0D-B69D-91CC787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383B-798D-4A36-AFA1-114BA4E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2551-19CD-4808-9C72-59615EF4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E5DB-2124-4DD9-B169-74A273C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0A1B-2C2E-44CC-A42F-645A3EE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C556-079B-45FB-BFDF-8D69C1A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0F54-9B96-4073-AED6-0D30BC5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AEE5-C47E-4BE5-8972-C92ADA3E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F744-C9F0-488B-A4A7-DB32E7E5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D312-D79A-470A-B3DE-D2A607C9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E18-D55C-4F9B-B2F1-A4D6184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01AD-8C98-4189-971E-32930D9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539D-F69A-445E-86F5-91853A2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01C0-4C8B-4BC1-8FBF-92F86BE3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1D7C-BD47-44A3-9F27-BB4417BE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4CFD-B458-4D0E-94AC-22D0847D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F40D-7829-499A-9994-C8C4033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5228-2126-409D-8D29-170C732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163D-BCD3-4213-A82B-AFCECD6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1D3A-3F5B-4298-9C7A-735388D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9E61-0CDF-4733-B7D9-E1367AB2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AF1-FBE8-4709-B9A3-B2249E72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6740E-5A9A-434E-B9F2-7F1CD72A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3D64-CEF8-45AF-ABDB-182D0E1A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65DF4-7819-4451-9B45-67F6E96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ABAB-0F4E-4DDE-AB9B-E848B33C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D09C-3BC2-49B6-A200-6E3A1BF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AF08-FC7C-4448-A5B5-0567E5CF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0964-EA5B-47BB-BD01-8F89DC16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6EB6-3F0C-4846-8011-B1C7CD68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B990-7E96-49AD-9814-9736734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1C65C-418E-4CF9-B624-B489B2D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C74-E608-4BEF-A8C0-EAF65CE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6136-CAAF-4D6C-8754-D17870E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DD94-3112-49B1-91CF-F2B35182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C13A-FEB0-4713-BEDE-5750171F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0ABB-45A2-453E-BC88-882B980B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3E9D-36D8-4118-9926-52FB199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3A57-6B19-4B52-9BE0-84281AAE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2C52-AA4E-40E1-8BBA-CA07341F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55715-3A30-4FBF-A5B9-219C83E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D603-1843-409D-8135-7397093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5087-73E6-44D8-8EBA-8034EED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288-3016-4102-8A14-56ADB0C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D354C-4B3E-4F83-B122-9AB03689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0B1B-C153-4D86-89A4-64173DF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F53F-8DCB-43FC-B32F-BAAC5ED9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3313-1BFF-4449-A220-CD8ADEB7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084E-CB1B-4173-90DE-A5FF2784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3620-7241-4169-911F-2DED4669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FE26-546F-499F-85CF-3E26B7E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56D9-B6A8-43F6-9210-CBC383B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BE6D-4FFA-4BDD-939A-F8D91E9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76FA-9381-423B-A9B7-731A7B1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577-254D-49B3-A149-DD1AE01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D013-3C0C-4DA1-ABAF-00B234CF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C885-F634-4241-B849-524F463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6B5A-3609-422B-BDC4-6102A94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2432-3C5F-4911-9891-00A7BDF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557B3-4AF7-4807-AEFD-C562979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45D0-D291-4D74-BE70-B10064E8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0EBC-7906-45B1-AFD1-A6A1F110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135EB-1567-47E5-A225-2C52707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60B80-0855-4171-8129-56095A63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E16D1-D63D-448C-A5FF-39C0F63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4808-DC72-40C1-9B56-7208E8342D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D7DA-1562-451F-9521-C4028F4EE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DF83-F3C9-4E8E-8664-CE7F9932D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D07-CB23-40D9-A498-255962D2D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058-1C3D-40BF-9C56-13C2C7F80E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0750-A118-44E8-8192-B3DC425F7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EC5-F0F5-42E2-BF24-DA95B9A16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7DF-7728-4C3B-9093-DB70F8188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F5C1-FBCD-47DC-B930-01AECD907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C8CF-F521-45E9-98C1-BDFD18A0B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1DF-86FD-4F70-B7CA-9A7CC1A0A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FF7-5620-4647-9CC6-F29BF2BF85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5DE-8EBD-45BD-813C-1D789313F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AC1-C2EA-4932-B2E8-3E542A525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7B9-2338-456A-997B-EFD7C4BDF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919-FE41-4777-B746-1E5ACE2C3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F7BF-C807-4F51-BF57-273F07A8E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775-1DC3-4C57-9497-E7C17A829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DC5-A729-4567-812B-C9EEB3251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F3E-9277-4717-A2B2-F9F0F9112E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5DFB-4CEA-440F-ADC6-885A4ACD9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0324-3880-4109-8692-52EEABC455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2A0-73F5-4F6A-9E64-9C6FBCC6D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424A-09F4-43E7-A159-DB7F05E1D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B6BE-32DC-4371-85ED-8D26F49B1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336-8CDC-4899-B1EA-17DDF48E6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8ED-F626-46BA-B9D9-E013E7007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CD7D-7E76-444E-BD9A-FA6505F727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369-3567-408D-BE6E-822C78904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E2D-140A-4CBA-963A-AA457539E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E1C8-B035-48D8-B148-F4AF0C1ED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6A8-1DCC-4D18-A06A-7941ADE2A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DF17-74AB-4A17-AB24-2B8961A23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18B-8D32-47D6-A711-D40BFDA86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FD24-2FC7-4DA2-B940-FA1E03BFB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FE7C-60A1-4F0F-A4F1-22B538AA6E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9C5-903A-4E2E-909B-0D58523C2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B7D-E6F7-43F8-BCEB-06F085765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B81-B456-4AFC-97BE-4C59D01CF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07D8-8502-49AE-8DCB-36075F736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687C-D686-4287-80E2-6CD63AF19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8CB-7763-411F-9C78-545FCF6E9E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C9F-AF0C-450F-8B39-F840ED1AE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E9F-087E-4E99-A97D-21AEEB77C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20F-F9D0-4DB1-8872-8A498DF4A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6EB2-3960-41A5-B3CD-6660A750E3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A80-E1F4-49CC-8033-A81A590F2A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B6B-6580-4E2A-A5AD-F1EC2CDDF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06FA-197F-460C-8BFC-24D68CDED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4EC-17DA-498E-83BD-212E4B7E1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343400" cy="4190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779560" y="2908440"/>
            <a:ext cx="3076560" cy="22860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913200" y="4900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2097" descr=""/>
          <p:cNvPicPr/>
          <p:nvPr/>
        </p:nvPicPr>
        <p:blipFill>
          <a:blip r:embed="rId1"/>
          <a:stretch/>
        </p:blipFill>
        <p:spPr>
          <a:xfrm>
            <a:off x="241200" y="830160"/>
            <a:ext cx="81536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131073" descr=""/>
          <p:cNvPicPr/>
          <p:nvPr/>
        </p:nvPicPr>
        <p:blipFill>
          <a:blip r:embed="rId1"/>
          <a:stretch/>
        </p:blipFill>
        <p:spPr>
          <a:xfrm>
            <a:off x="700200" y="928800"/>
            <a:ext cx="7515000" cy="2943000"/>
          </a:xfrm>
          <a:prstGeom prst="rect">
            <a:avLst/>
          </a:prstGeom>
          <a:ln w="0">
            <a:noFill/>
          </a:ln>
        </p:spPr>
      </p:pic>
      <p:sp>
        <p:nvSpPr>
          <p:cNvPr id="1386" name="矩形 131074"/>
          <p:cNvSpPr/>
          <p:nvPr/>
        </p:nvSpPr>
        <p:spPr>
          <a:xfrm>
            <a:off x="800280" y="955800"/>
            <a:ext cx="61545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75"/>
          <p:cNvSpPr/>
          <p:nvPr/>
        </p:nvSpPr>
        <p:spPr>
          <a:xfrm>
            <a:off x="779400" y="1468440"/>
            <a:ext cx="61549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76"/>
          <p:cNvSpPr/>
          <p:nvPr/>
        </p:nvSpPr>
        <p:spPr>
          <a:xfrm>
            <a:off x="1220760" y="1992240"/>
            <a:ext cx="6288120" cy="7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7"/>
          <p:cNvSpPr/>
          <p:nvPr/>
        </p:nvSpPr>
        <p:spPr>
          <a:xfrm>
            <a:off x="809640" y="2895480"/>
            <a:ext cx="74692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78"/>
          <p:cNvSpPr/>
          <p:nvPr/>
        </p:nvSpPr>
        <p:spPr>
          <a:xfrm>
            <a:off x="738360" y="3440160"/>
            <a:ext cx="74689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图片 130049" descr=""/>
          <p:cNvPicPr/>
          <p:nvPr/>
        </p:nvPicPr>
        <p:blipFill>
          <a:blip r:embed="rId1"/>
          <a:stretch/>
        </p:blipFill>
        <p:spPr>
          <a:xfrm>
            <a:off x="210960" y="1065240"/>
            <a:ext cx="8239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129025" descr=""/>
          <p:cNvPicPr/>
          <p:nvPr/>
        </p:nvPicPr>
        <p:blipFill>
          <a:blip r:embed="rId1"/>
          <a:stretch/>
        </p:blipFill>
        <p:spPr>
          <a:xfrm>
            <a:off x="828720" y="1077840"/>
            <a:ext cx="7257960" cy="3686400"/>
          </a:xfrm>
          <a:prstGeom prst="rect">
            <a:avLst/>
          </a:prstGeom>
          <a:ln w="0">
            <a:noFill/>
          </a:ln>
        </p:spPr>
      </p:pic>
      <p:sp>
        <p:nvSpPr>
          <p:cNvPr id="1393" name="矩形 129026"/>
          <p:cNvSpPr/>
          <p:nvPr/>
        </p:nvSpPr>
        <p:spPr>
          <a:xfrm>
            <a:off x="843120" y="107964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9027"/>
          <p:cNvSpPr/>
          <p:nvPr/>
        </p:nvSpPr>
        <p:spPr>
          <a:xfrm>
            <a:off x="822240" y="162396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9028"/>
          <p:cNvSpPr/>
          <p:nvPr/>
        </p:nvSpPr>
        <p:spPr>
          <a:xfrm>
            <a:off x="790560" y="217980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29"/>
          <p:cNvSpPr/>
          <p:nvPr/>
        </p:nvSpPr>
        <p:spPr>
          <a:xfrm>
            <a:off x="811080" y="2712960"/>
            <a:ext cx="7533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30"/>
          <p:cNvSpPr/>
          <p:nvPr/>
        </p:nvSpPr>
        <p:spPr>
          <a:xfrm>
            <a:off x="790560" y="322596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31"/>
          <p:cNvSpPr/>
          <p:nvPr/>
        </p:nvSpPr>
        <p:spPr>
          <a:xfrm>
            <a:off x="790560" y="381168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9032"/>
          <p:cNvSpPr/>
          <p:nvPr/>
        </p:nvSpPr>
        <p:spPr>
          <a:xfrm>
            <a:off x="820800" y="4273560"/>
            <a:ext cx="75326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299880" y="822240"/>
            <a:ext cx="8544240" cy="379116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140290" descr=""/>
          <p:cNvPicPr/>
          <p:nvPr/>
        </p:nvPicPr>
        <p:blipFill>
          <a:blip r:embed="rId2"/>
          <a:stretch/>
        </p:blipFill>
        <p:spPr>
          <a:xfrm>
            <a:off x="318960" y="4741920"/>
            <a:ext cx="7286760" cy="143820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1"/>
          <p:cNvSpPr/>
          <p:nvPr/>
        </p:nvSpPr>
        <p:spPr>
          <a:xfrm>
            <a:off x="6729480" y="2506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2"/>
          <p:cNvSpPr/>
          <p:nvPr/>
        </p:nvSpPr>
        <p:spPr>
          <a:xfrm>
            <a:off x="7694640" y="2506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3"/>
          <p:cNvSpPr/>
          <p:nvPr/>
        </p:nvSpPr>
        <p:spPr>
          <a:xfrm>
            <a:off x="1857240" y="2968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4"/>
          <p:cNvSpPr/>
          <p:nvPr/>
        </p:nvSpPr>
        <p:spPr>
          <a:xfrm>
            <a:off x="4056120" y="2968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5"/>
          <p:cNvSpPr/>
          <p:nvPr/>
        </p:nvSpPr>
        <p:spPr>
          <a:xfrm>
            <a:off x="1755720" y="3843360"/>
            <a:ext cx="585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6"/>
          <p:cNvSpPr/>
          <p:nvPr/>
        </p:nvSpPr>
        <p:spPr>
          <a:xfrm>
            <a:off x="3224160" y="3843360"/>
            <a:ext cx="585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7"/>
          <p:cNvSpPr/>
          <p:nvPr/>
        </p:nvSpPr>
        <p:spPr>
          <a:xfrm>
            <a:off x="5495760" y="3843360"/>
            <a:ext cx="586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8"/>
          <p:cNvSpPr/>
          <p:nvPr/>
        </p:nvSpPr>
        <p:spPr>
          <a:xfrm>
            <a:off x="4160880" y="51786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9"/>
          <p:cNvSpPr/>
          <p:nvPr/>
        </p:nvSpPr>
        <p:spPr>
          <a:xfrm>
            <a:off x="2610000" y="57434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300"/>
          <p:cNvSpPr/>
          <p:nvPr/>
        </p:nvSpPr>
        <p:spPr>
          <a:xfrm>
            <a:off x="4192560" y="57434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9265" descr=""/>
          <p:cNvPicPr/>
          <p:nvPr/>
        </p:nvPicPr>
        <p:blipFill>
          <a:blip r:embed="rId1"/>
          <a:stretch/>
        </p:blipFill>
        <p:spPr>
          <a:xfrm>
            <a:off x="426960" y="946080"/>
            <a:ext cx="8543880" cy="453384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9266"/>
          <p:cNvSpPr/>
          <p:nvPr/>
        </p:nvSpPr>
        <p:spPr>
          <a:xfrm>
            <a:off x="8331120" y="1809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7"/>
          <p:cNvSpPr/>
          <p:nvPr/>
        </p:nvSpPr>
        <p:spPr>
          <a:xfrm>
            <a:off x="8340840" y="2631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68"/>
          <p:cNvSpPr/>
          <p:nvPr/>
        </p:nvSpPr>
        <p:spPr>
          <a:xfrm>
            <a:off x="8340840" y="3525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69"/>
          <p:cNvSpPr/>
          <p:nvPr/>
        </p:nvSpPr>
        <p:spPr>
          <a:xfrm>
            <a:off x="6008760" y="5025960"/>
            <a:ext cx="6681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8241" descr=""/>
          <p:cNvPicPr/>
          <p:nvPr/>
        </p:nvPicPr>
        <p:blipFill>
          <a:blip r:embed="rId1"/>
          <a:stretch/>
        </p:blipFill>
        <p:spPr>
          <a:xfrm>
            <a:off x="444600" y="846000"/>
            <a:ext cx="8534160" cy="511524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8242"/>
          <p:cNvSpPr/>
          <p:nvPr/>
        </p:nvSpPr>
        <p:spPr>
          <a:xfrm>
            <a:off x="6678720" y="843120"/>
            <a:ext cx="226224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3"/>
          <p:cNvSpPr/>
          <p:nvPr/>
        </p:nvSpPr>
        <p:spPr>
          <a:xfrm>
            <a:off x="758880" y="1521000"/>
            <a:ext cx="1017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4"/>
          <p:cNvSpPr/>
          <p:nvPr/>
        </p:nvSpPr>
        <p:spPr>
          <a:xfrm>
            <a:off x="2886120" y="1963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5"/>
          <p:cNvSpPr/>
          <p:nvPr/>
        </p:nvSpPr>
        <p:spPr>
          <a:xfrm>
            <a:off x="5762520" y="1963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6"/>
          <p:cNvSpPr/>
          <p:nvPr/>
        </p:nvSpPr>
        <p:spPr>
          <a:xfrm>
            <a:off x="933480" y="24256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7"/>
          <p:cNvSpPr/>
          <p:nvPr/>
        </p:nvSpPr>
        <p:spPr>
          <a:xfrm>
            <a:off x="1766880" y="2425680"/>
            <a:ext cx="585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8"/>
          <p:cNvSpPr/>
          <p:nvPr/>
        </p:nvSpPr>
        <p:spPr>
          <a:xfrm>
            <a:off x="758880" y="4008600"/>
            <a:ext cx="1305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9"/>
          <p:cNvSpPr/>
          <p:nvPr/>
        </p:nvSpPr>
        <p:spPr>
          <a:xfrm>
            <a:off x="2238480" y="4460760"/>
            <a:ext cx="531180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50"/>
          <p:cNvSpPr/>
          <p:nvPr/>
        </p:nvSpPr>
        <p:spPr>
          <a:xfrm>
            <a:off x="779400" y="5437080"/>
            <a:ext cx="638028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7217" descr=""/>
          <p:cNvPicPr/>
          <p:nvPr/>
        </p:nvPicPr>
        <p:blipFill>
          <a:blip r:embed="rId1"/>
          <a:stretch/>
        </p:blipFill>
        <p:spPr>
          <a:xfrm>
            <a:off x="237960" y="785880"/>
            <a:ext cx="8134560" cy="60483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7218"/>
          <p:cNvSpPr/>
          <p:nvPr/>
        </p:nvSpPr>
        <p:spPr>
          <a:xfrm>
            <a:off x="7561440" y="250812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7219"/>
          <p:cNvSpPr/>
          <p:nvPr/>
        </p:nvSpPr>
        <p:spPr>
          <a:xfrm>
            <a:off x="7572240" y="4307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6193" descr=""/>
          <p:cNvPicPr/>
          <p:nvPr/>
        </p:nvPicPr>
        <p:blipFill>
          <a:blip r:embed="rId1"/>
          <a:stretch/>
        </p:blipFill>
        <p:spPr>
          <a:xfrm>
            <a:off x="198360" y="844560"/>
            <a:ext cx="8163000" cy="582912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6194"/>
          <p:cNvSpPr/>
          <p:nvPr/>
        </p:nvSpPr>
        <p:spPr>
          <a:xfrm>
            <a:off x="7551720" y="149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6195"/>
          <p:cNvSpPr/>
          <p:nvPr/>
        </p:nvSpPr>
        <p:spPr>
          <a:xfrm>
            <a:off x="2979720" y="5683320"/>
            <a:ext cx="5343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6196"/>
          <p:cNvSpPr/>
          <p:nvPr/>
        </p:nvSpPr>
        <p:spPr>
          <a:xfrm>
            <a:off x="811080" y="6237360"/>
            <a:ext cx="1132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135169" descr=""/>
          <p:cNvPicPr/>
          <p:nvPr/>
        </p:nvPicPr>
        <p:blipFill>
          <a:blip r:embed="rId1"/>
          <a:stretch/>
        </p:blipFill>
        <p:spPr>
          <a:xfrm>
            <a:off x="230040" y="930240"/>
            <a:ext cx="8124840" cy="5276880"/>
          </a:xfrm>
          <a:prstGeom prst="rect">
            <a:avLst/>
          </a:prstGeom>
          <a:ln w="0">
            <a:noFill/>
          </a:ln>
        </p:spPr>
      </p:pic>
      <p:sp>
        <p:nvSpPr>
          <p:cNvPr id="1369" name="矩形 135170"/>
          <p:cNvSpPr/>
          <p:nvPr/>
        </p:nvSpPr>
        <p:spPr>
          <a:xfrm>
            <a:off x="4879800" y="955800"/>
            <a:ext cx="5144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1"/>
          <p:cNvSpPr/>
          <p:nvPr/>
        </p:nvSpPr>
        <p:spPr>
          <a:xfrm>
            <a:off x="1212840" y="1500120"/>
            <a:ext cx="39052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2"/>
          <p:cNvSpPr/>
          <p:nvPr/>
        </p:nvSpPr>
        <p:spPr>
          <a:xfrm>
            <a:off x="3276720" y="2046240"/>
            <a:ext cx="1387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3"/>
          <p:cNvSpPr/>
          <p:nvPr/>
        </p:nvSpPr>
        <p:spPr>
          <a:xfrm>
            <a:off x="595440" y="3619440"/>
            <a:ext cx="39351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4"/>
          <p:cNvSpPr/>
          <p:nvPr/>
        </p:nvSpPr>
        <p:spPr>
          <a:xfrm>
            <a:off x="708120" y="5767560"/>
            <a:ext cx="3935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图片 134145" descr=""/>
          <p:cNvPicPr/>
          <p:nvPr/>
        </p:nvPicPr>
        <p:blipFill>
          <a:blip r:embed="rId1"/>
          <a:stretch/>
        </p:blipFill>
        <p:spPr>
          <a:xfrm>
            <a:off x="750960" y="898560"/>
            <a:ext cx="5153040" cy="104760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134146" descr=""/>
          <p:cNvPicPr/>
          <p:nvPr/>
        </p:nvPicPr>
        <p:blipFill>
          <a:blip r:embed="rId2"/>
          <a:stretch/>
        </p:blipFill>
        <p:spPr>
          <a:xfrm>
            <a:off x="182520" y="2405160"/>
            <a:ext cx="8143920" cy="33433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134147" descr=""/>
          <p:cNvPicPr/>
          <p:nvPr/>
        </p:nvPicPr>
        <p:blipFill>
          <a:blip r:embed="rId3"/>
          <a:stretch/>
        </p:blipFill>
        <p:spPr>
          <a:xfrm>
            <a:off x="1317600" y="5848200"/>
            <a:ext cx="6915240" cy="95256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4148"/>
          <p:cNvSpPr/>
          <p:nvPr/>
        </p:nvSpPr>
        <p:spPr>
          <a:xfrm>
            <a:off x="779400" y="1449360"/>
            <a:ext cx="51386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图片 133121" descr=""/>
          <p:cNvPicPr/>
          <p:nvPr/>
        </p:nvPicPr>
        <p:blipFill>
          <a:blip r:embed="rId1"/>
          <a:stretch/>
        </p:blipFill>
        <p:spPr>
          <a:xfrm>
            <a:off x="722160" y="903240"/>
            <a:ext cx="7648560" cy="416232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3122"/>
          <p:cNvSpPr/>
          <p:nvPr/>
        </p:nvSpPr>
        <p:spPr>
          <a:xfrm>
            <a:off x="781200" y="2517840"/>
            <a:ext cx="54464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3"/>
          <p:cNvSpPr/>
          <p:nvPr/>
        </p:nvSpPr>
        <p:spPr>
          <a:xfrm>
            <a:off x="749160" y="2990880"/>
            <a:ext cx="54468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4"/>
          <p:cNvSpPr/>
          <p:nvPr/>
        </p:nvSpPr>
        <p:spPr>
          <a:xfrm>
            <a:off x="749160" y="3576600"/>
            <a:ext cx="63198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3125"/>
          <p:cNvSpPr/>
          <p:nvPr/>
        </p:nvSpPr>
        <p:spPr>
          <a:xfrm>
            <a:off x="687240" y="4100400"/>
            <a:ext cx="77076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6"/>
          <p:cNvSpPr/>
          <p:nvPr/>
        </p:nvSpPr>
        <p:spPr>
          <a:xfrm>
            <a:off x="635040" y="4645080"/>
            <a:ext cx="77072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11:09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